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6110-89A9-4E48-89F9-BA79E165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F0C-ADCD-48BE-B6E4-E4EC06E1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9B51-95E0-4DDE-A19A-9B3901A4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D83-4795-417E-BC55-94EC1AB6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5981-9911-4A8A-9C3A-F6E9AFF5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657F-AFA4-4448-8884-6DEF37BA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17EB-FD5B-4A81-8A4F-2ABFCB9C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0B2B-E7CE-4BBA-A030-07111BC9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4178-4398-4538-8C85-95D90CB8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019B-5D17-4C6E-B522-35455503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2EAD-BCD0-443B-B9D4-AF68C3F6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399F-94DA-49DA-B2BD-CB941276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285D-59D5-4E81-B4A2-1C65F541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150D-EFF5-4606-BAEF-01BE0475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7EB9-2960-483A-BDF8-CCDF2ABC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1DDF-ED9D-4A60-BB15-DDA7EFF6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8504-BE44-4758-BFC4-A086EBBF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983C-4175-4F18-88BD-2AFE4D96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7643-DF86-41AF-8511-FC8B6755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55DF-0832-4027-B5D6-8357F90A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66E7-949A-4012-A8B5-8EF622DB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2ABE-C6D6-48E7-A297-E8D6AD3C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47FA-5A4B-4EA5-B90F-A100F2E9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EDB1-A6F6-4C93-BF56-6A123856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5D08-1543-4FBB-9380-EAFF4D9FD7F5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2407-F71A-42B7-A7E5-780D3AE58844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Review of Factoring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at you should remember…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3276720" y="1523880"/>
          <a:ext cx="420372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523880"/>
                    <a:ext cx="42037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4"/>
          <p:cNvSpPr/>
          <p:nvPr/>
        </p:nvSpPr>
        <p:spPr>
          <a:xfrm>
            <a:off x="312408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GCF (Greatest Common Factor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actoring out the GCF reverses the distributive proper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vide out the largest number that goes into each coefficien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all of the terms have common variables, take out the smallest exponen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ow to Identify: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CF problems can be binomials, trinomials, or polynomial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ook for common variables and common facto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312408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438280" y="1523880"/>
          <a:ext cx="5797800" cy="401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523880"/>
                    <a:ext cx="57978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ifference of 2 Squar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actoring using the difference of 2 squares reverses FOIL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oth terms must be perfect squar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aning: Coefficients and constants must be perfect squares, and variables must have even exponent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ow to Identify: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ifference of 2 Squares problems must be binomials.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terms being SUBTRACTED must be perfect squar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lways set up the parenthesis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     +     )(     -     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3200400" y="1523880"/>
          <a:ext cx="4268880" cy="45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3880"/>
                    <a:ext cx="426888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everse FOIL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so called guess &amp; check / trial &amp; erro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You must find 2 factors that multiply to create the last term, but add to the middle term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rt by writing out the factors of the last term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 careful with your signs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ow to Identify: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o factor by guess &amp; check, you must have a trinomial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rite out the factors of the last number until you find the pair that adds to the middle term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21:27:28Z</dcterms:created>
  <dc:creator>PSD</dc:creator>
  <dc:description/>
  <dc:language>en-US</dc:language>
  <cp:lastModifiedBy>test</cp:lastModifiedBy>
  <dcterms:modified xsi:type="dcterms:W3CDTF">2015-05-08T11:59:32Z</dcterms:modified>
  <cp:revision>2</cp:revision>
  <dc:subject/>
  <dc:title>Review of Factoring</dc:title>
</cp:coreProperties>
</file>